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2FB1-2405-463E-9B5B-FE52BCAD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EA30-AF5F-4BB7-B4FD-D799E0AF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F11-38DF-4FC0-BAD4-120FED2C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73A-FC09-4A04-BF66-65E1B7E6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7285-2AAC-40E2-A7FD-9DCE4C94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DA82-F149-4C4B-ACDA-D6D50EF8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8764-7921-4FDE-B650-39888742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EB83-B5C2-439D-9AC5-B6299615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A502-2595-4A06-9B63-5DFFEBA3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4D18-1D7B-42A2-9C92-E8E7A89B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EFA2-37CB-45A3-B091-0787873C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D15-02A0-48E5-84E7-8270C110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1ADB-9ED6-4D0A-B968-6440E3B2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761C-7C4E-4917-92B5-1E7F2501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B2DD-B023-4280-A349-104B4ABE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9D07-4CDB-45F3-9139-5EBD8D3C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CF5D-7FE3-433D-9678-172DAFB4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B76CF-8D9B-4C3E-BDFE-7B2A89C6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9B42B-83A2-40DE-B4C3-66E0E052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08120-622B-46F2-AFC7-C109F309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25BD7-F3B4-4C34-B592-0EAFCD89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90EB6-D186-4392-AEBE-263CDB56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054-58E4-43D4-B82E-3D8A40B9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67D0B-2C40-4854-9592-49120E96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E21AC-92D4-4D2D-BBC1-1D805D3D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CC33C-28F4-4DFF-AD80-E4ADA41B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83859-DBB2-4F3F-847B-80CE1932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33EC7-C81F-43B3-9AB6-8AFF1DC7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57F97-93E4-4A5B-AD6B-C7DDE181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84507-5901-43A5-BA56-D7B5DEEA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B1C-C260-4CE7-8C6C-0055BA86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B7E-AB88-401A-B8A1-24D721FC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A5D4-FDE8-44FC-9F64-372F931E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1E70-CFCA-47BD-A78B-3E001BB7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2E0-FB99-4F5C-A054-8BEA48F0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B64-A685-4C8B-9E51-96340E42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7DA5-91D2-430B-A4E9-1D87A47691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29F8-CD12-4154-BB26-AA2BF91AD6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D161-1C00-46AE-8DBE-579F5882A6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5" descr="F:\360同步盘\新云盘\工作文件（勿删）\A  我的工作台\PS插件\PS率剪\设计\安装教程图\p1.jpgp1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5" descr="F:\360同步盘\新云盘\工作文件（勿删）\A  我的工作台\PS插件\PS率剪\设计\安装教程图\p10.jpgp10"/>
          <p:cNvPicPr/>
          <p:nvPr/>
        </p:nvPicPr>
        <p:blipFill>
          <a:blip r:embed="rId1"/>
          <a:stretch/>
        </p:blipFill>
        <p:spPr>
          <a:xfrm>
            <a:off x="-14400" y="-7920"/>
            <a:ext cx="1220796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5" descr="F:\360同步盘\新云盘\工作文件（勿删）\A  我的工作台\PS插件\PS率剪\设计\安装教程图\p10-1.jpgp10-1"/>
          <p:cNvPicPr/>
          <p:nvPr/>
        </p:nvPicPr>
        <p:blipFill>
          <a:blip r:embed="rId1"/>
          <a:stretch/>
        </p:blipFill>
        <p:spPr>
          <a:xfrm>
            <a:off x="-14400" y="-7920"/>
            <a:ext cx="1220796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5" descr="F:\360同步盘\新云盘\工作文件（勿删）\A  我的工作台\PS插件\PS率剪\设计\安装教程图\p11-使用教程.jpgp11-使用教程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5" descr="F:\360同步盘\新云盘\工作文件（勿删）\A  我的工作台\PS插件\PS率剪\设计\安装教程图\p12.jpgp12"/>
          <p:cNvPicPr/>
          <p:nvPr/>
        </p:nvPicPr>
        <p:blipFill>
          <a:blip r:embed="rId1"/>
          <a:stretch/>
        </p:blipFill>
        <p:spPr>
          <a:xfrm>
            <a:off x="-9360" y="-468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5" descr="F:\360同步盘\新云盘\工作文件（勿删）\A  我的工作台\PS插件\PS率剪\设计\安装教程图\p13.jpgp13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5" descr="F:\360同步盘\新云盘\工作文件（勿删）\A  我的工作台\PS插件\PS率剪\设计\安装教程图\p14.jpgp14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5" descr="F:\360同步盘\新云盘\工作文件（勿删）\A  我的工作台\PS插件\PS率剪\设计\安装教程图\p15.jpgp15"/>
          <p:cNvPicPr/>
          <p:nvPr/>
        </p:nvPicPr>
        <p:blipFill>
          <a:blip r:embed="rId1"/>
          <a:stretch/>
        </p:blipFill>
        <p:spPr>
          <a:xfrm>
            <a:off x="-14400" y="-7920"/>
            <a:ext cx="1220796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5" descr="F:\360同步盘\新云盘\工作文件（勿删）\A  我的工作台\PS插件\PS率剪\设计\安装教程图\p16.jpgp16"/>
          <p:cNvPicPr/>
          <p:nvPr/>
        </p:nvPicPr>
        <p:blipFill>
          <a:blip r:embed="rId1"/>
          <a:stretch/>
        </p:blipFill>
        <p:spPr>
          <a:xfrm>
            <a:off x="-15840" y="-7920"/>
            <a:ext cx="1220940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5" descr="F:\360同步盘\新云盘\工作文件（勿删）\A  我的工作台\PS插件\PS率剪\设计\安装教程图\p2.jpgp2"/>
          <p:cNvPicPr/>
          <p:nvPr/>
        </p:nvPicPr>
        <p:blipFill>
          <a:blip r:embed="rId1"/>
          <a:stretch/>
        </p:blipFill>
        <p:spPr>
          <a:xfrm>
            <a:off x="-9360" y="-468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5" descr="F:\360同步盘\新云盘\工作文件（勿删）\A  我的工作台\PS插件\PS率剪\设计\安装教程图\p3-安装教程.jpgp3-安装教程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5" descr="F:\360同步盘\新云盘\工作文件（勿删）\A  我的工作台\PS插件\PS率剪\设计\安装教程图\p4.jpgp4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5" descr="F:\360同步盘\新云盘\工作文件（勿删）\A  我的工作台\PS插件\PS率剪\设计\安装教程图\p5.jpgp5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5" descr="F:\360同步盘\新云盘\工作文件（勿删）\A  我的工作台\PS插件\PS率剪\设计\安装教程图\p6.jpgp6"/>
          <p:cNvPicPr/>
          <p:nvPr/>
        </p:nvPicPr>
        <p:blipFill>
          <a:blip r:embed="rId1"/>
          <a:stretch/>
        </p:blipFill>
        <p:spPr>
          <a:xfrm>
            <a:off x="-9360" y="-468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5" descr="F:\360同步盘\新云盘\工作文件（勿删）\A  我的工作台\PS插件\PS率剪\设计\安装教程图\p7.jpgp7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5" descr="F:\360同步盘\新云盘\工作文件（勿删）\A  我的工作台\PS插件\PS率剪\设计\安装教程图\p8.jpgp8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5" descr="F:\360同步盘\新云盘\工作文件（勿删）\A  我的工作台\PS插件\PS率剪\设计\安装教程图\p9.jpgp9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1T16:31:26Z</dcterms:created>
  <dc:creator>afu iam</dc:creator>
  <dc:description/>
  <dc:language>en-US</dc:language>
  <cp:lastModifiedBy>Administrator</cp:lastModifiedBy>
  <dcterms:modified xsi:type="dcterms:W3CDTF">2020-03-01T19:16:44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41</vt:lpwstr>
  </property>
</Properties>
</file>